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E986-8D6F-4DE7-BDB9-6A863E052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B956-B086-4753-8A94-3F76B880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EA46-6FA5-4AEE-AB5B-DB59A06E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9792-6650-4C37-9024-19488D3A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A13D-F59E-42C2-9C56-291F4EB3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B5A1-6A8E-4110-A09C-3DD5A551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505B-3729-4A7F-B341-509D2511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4955-9B42-4987-85D8-954D0BD3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CE4E-087F-4CFD-BF56-C9490A55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324F-D61F-4B11-B8BB-49FD8AFD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67DE-FAD1-4D06-AE68-D29FF298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756C-0F66-4083-938A-40984E96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D28A-BC91-4B66-96E2-46F457152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5360" y="838080"/>
            <a:ext cx="49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’re in NY and are trying to flag down a c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ance of catching a cab on your street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% per minute of standing there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324480" y="22860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0760" y="3048120"/>
            <a:ext cx="802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probability that you will still be there af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 1 minut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. 2 min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What is the probability that you caught a cab in the 2nd minu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 What is the probability that you didn’t catch a cab in the 2nd minu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65786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84320" y="533520"/>
            <a:ext cx="8959680" cy="17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19320" y="2514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219320" y="137124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22160" y="106668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98120" y="230040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0960" y="1782720"/>
            <a:ext cx="1014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0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60600" y="2590920"/>
            <a:ext cx="1006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0.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87640" y="2514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987640" y="137124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90480" y="106668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66440" y="230040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47280" y="1752480"/>
            <a:ext cx="1204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0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33240" y="2590920"/>
            <a:ext cx="1282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| 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0.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29800" y="1981080"/>
            <a:ext cx="1199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P(S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S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) = 9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22240" y="762120"/>
            <a:ext cx="1207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P(S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C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) = 3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47880" y="487440"/>
            <a:ext cx="1014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P(C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) = 4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3792600"/>
            <a:ext cx="8610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probability that you will still be there af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 1 minute?  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3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. 2 minutes? 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9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What is the probability that you caught a cab in the 2nd minute? 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3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 What is the probability that you didn’t catch a cab in the 2nd minute? 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13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48600" y="762120"/>
            <a:ext cx="9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(C</a:t>
            </a:r>
            <a:r>
              <a:rPr b="0" lang="en-US" sz="12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) = 1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78680" y="3002040"/>
            <a:ext cx="921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(S</a:t>
            </a:r>
            <a:r>
              <a:rPr b="0" lang="en-US" sz="12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) = 3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0" y="304920"/>
            <a:ext cx="4219560" cy="2581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609480"/>
            <a:ext cx="403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Jones family has 2 parents, 4 kids, 2 cats, 3 dogs. 5 people/animals go on a walk. It is known that at least 1 parent went and at least 1 pet went. How many different scenarios are there for who w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08240" y="1523880"/>
            <a:ext cx="16016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1523880"/>
            <a:ext cx="2286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08240" y="2209680"/>
            <a:ext cx="16016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2209680"/>
            <a:ext cx="2286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87840" y="457200"/>
            <a:ext cx="52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,P2   K1,K2,K3,K4   C1,C2,D1,D2,D3  (11 tota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41160" y="10810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an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17320" y="106668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0 an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46720" y="16765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3920" y="2362320"/>
            <a:ext cx="12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0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120" y="3276720"/>
            <a:ext cx="51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1: total – [(0P,0A) + (&gt;0P,0A) + (0P,&gt;0A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5160" y="3595680"/>
            <a:ext cx="63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c5 – [0 + 6c5 + 9c5]     =     462 – [0 + 6 + 126]      =     3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280" y="4191120"/>
            <a:ext cx="56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2:  (&gt;0P, &gt;0A)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P,4A,0K) + (1P,3A,1K) + (1P,2A,2K) + (1P,1A,3K)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P,3A,0K) + (2P,2A,1K) + (2P,1A,2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51440" y="220968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12400" y="23623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61520" y="23623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0000" y="5378400"/>
            <a:ext cx="810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c1)*(5c4)*(4c0) + (2c1)*(5c3)*(4c1) + (2c1)*(5c2)*(4c2) + (2c1)*(5c1)*(4c3)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c2)*(5c3)*(4c0) + (2c2)*(5c2)*(4c1) + (2c2)*(5c1)*(4c2) =   3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924200"/>
            <a:ext cx="914400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45820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64324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53416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43000" y="4648320"/>
            <a:ext cx="7010280" cy="1950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2120" y="152280"/>
            <a:ext cx="64767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00:54:30Z</dcterms:created>
  <dc:creator>Ben</dc:creator>
  <dc:description/>
  <dc:language>en-US</dc:language>
  <cp:lastModifiedBy>Ben</cp:lastModifiedBy>
  <dcterms:modified xsi:type="dcterms:W3CDTF">2010-11-24T06:29:23Z</dcterms:modified>
  <cp:revision>56</cp:revision>
  <dc:subject/>
  <dc:title>Slide 1</dc:title>
</cp:coreProperties>
</file>